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E2C0-B785-45F7-AD08-36C5DF9AC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OVEPIE</a:t>
            </a: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A96D-3493-4B44-B176-6BB51BC01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7BCEF-EEF0-4F02-BBBF-8A589E07F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25358-BA68-4C54-BDD3-51D93B50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E2232-FF87-499D-9B03-C2A56B830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C9AF3-635B-4918-ABA8-3E71FB0FB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C5AEB-4651-4F3F-B662-ED6AB3890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2BD8-FDE3-4282-9706-7B22E9F2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CF8F9-C0B5-4CC8-8CB0-4D40F0AB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C8637-3021-49BF-A655-F5CB915D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BE48-40EF-452D-8976-E443CEACC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F077-2E64-4C7B-886C-56660375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40BAA-A55C-45EF-B1B7-DC304A9D3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32F8-76A5-4566-8584-D41EB8DC7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6B2F-8315-45A3-9C21-5499BC66C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wallpaperweb.org/wallpaper/nature/1280x960/Saguaro_Cactus_at_Sunset_Arizona_1280x960.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ritualesnaturales.files.wordpress.com/2007/09/aloe-vera.jpg"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Arial"/>
              </a:rPr>
              <a:t>Desert</a:t>
            </a:r>
            <a:endParaRPr b="0" lang="en-US" sz="8800" spc="-1" strike="noStrike">
              <a:solidFill>
                <a:srgbClr val="000000"/>
              </a:solidFill>
              <a:latin typeface="Arial"/>
            </a:endParaRPr>
          </a:p>
        </p:txBody>
      </p:sp>
      <p:sp>
        <p:nvSpPr>
          <p:cNvPr id="49" name="PlaceHolder 2"/>
          <p:cNvSpPr>
            <a:spLocks noGrp="1"/>
          </p:cNvSpPr>
          <p:nvPr>
            <p:ph type="subTitle"/>
          </p:nvPr>
        </p:nvSpPr>
        <p:spPr>
          <a:xfrm>
            <a:off x="1371600" y="1980720"/>
            <a:ext cx="640080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drew Knox</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icole Shap</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atie Sokolowski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228600" y="-95400"/>
            <a:ext cx="9372600" cy="7031160"/>
          </a:xfrm>
          <a:prstGeom prst="rect">
            <a:avLst/>
          </a:prstGeom>
          <a:ln w="0">
            <a:noFill/>
          </a:ln>
        </p:spPr>
      </p:pic>
      <p:sp>
        <p:nvSpPr>
          <p:cNvPr id="7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u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362320" y="-100080"/>
            <a:ext cx="11506320" cy="7664400"/>
          </a:xfrm>
          <a:prstGeom prst="rect">
            <a:avLst/>
          </a:prstGeom>
          <a:ln w="0">
            <a:noFill/>
          </a:ln>
        </p:spPr>
      </p:pic>
      <p:sp>
        <p:nvSpPr>
          <p:cNvPr id="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t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s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906120" cy="6858000"/>
          </a:xfrm>
          <a:prstGeom prst="rect">
            <a:avLst/>
          </a:prstGeom>
          <a:ln w="0">
            <a:noFill/>
          </a:ln>
        </p:spPr>
      </p:pic>
      <p:sp>
        <p:nvSpPr>
          <p:cNvPr id="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odo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sert Plant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esert plants look unlike any other plants in the other biomes</a:t>
            </a:r>
            <a:endParaRPr b="0" lang="en-US" sz="4000" spc="-1" strike="noStrike">
              <a:solidFill>
                <a:srgbClr val="000000"/>
              </a:solidFill>
              <a:latin typeface="Arial"/>
            </a:endParaRPr>
          </a:p>
          <a:p>
            <a:pPr marL="343080" indent="-3430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ll of the plants need adaptations to survive in the Desert, like being able to store water inside them, or having the ability to withstand hot weather.</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aguaro Cactus</a:t>
            </a:r>
            <a:endParaRPr b="0" lang="en-US" sz="4400" spc="-1" strike="noStrike">
              <a:solidFill>
                <a:srgbClr val="000000"/>
              </a:solidFill>
              <a:latin typeface="Arial"/>
            </a:endParaRPr>
          </a:p>
        </p:txBody>
      </p:sp>
      <p:sp>
        <p:nvSpPr>
          <p:cNvPr id="85" name="PlaceHolder 2"/>
          <p:cNvSpPr>
            <a:spLocks noGrp="1"/>
          </p:cNvSpPr>
          <p:nvPr>
            <p:ph/>
          </p:nvPr>
        </p:nvSpPr>
        <p:spPr>
          <a:xfrm>
            <a:off x="457200" y="1676520"/>
            <a:ext cx="8229600" cy="4525920"/>
          </a:xfrm>
          <a:prstGeom prst="rect">
            <a:avLst/>
          </a:prstGeom>
          <a:noFill/>
          <a:ln w="0">
            <a:noFill/>
          </a:ln>
        </p:spPr>
        <p:txBody>
          <a:bodyPr anchor="t">
            <a:normAutofit fontScale="95000"/>
          </a:bodyPr>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stem holds all of the water it store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s takes place in the top layer of its stem.</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s also store water from rain until the next time rain fall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nly grows in the Sonoran Desert.</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ers grow on the end of its branches and open on cool night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fe span of a Saguaro Cactus is two hundred year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nes pointing down direct rainwater into the hollows of the cactu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nes also direct the wind and insulate the plant.</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that eat the Cactus: bees, nosed bats, wasps, butterflies.</a:t>
            </a:r>
            <a:endParaRPr b="0" lang="en-US" sz="2000" spc="-1" strike="noStrike">
              <a:solidFill>
                <a:srgbClr val="000000"/>
              </a:solidFill>
              <a:latin typeface="Arial"/>
            </a:endParaRPr>
          </a:p>
          <a:p>
            <a:pPr marL="578880" indent="-578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woodpeckers like to drill a hole about two inches deep in the body of the cactus to live in it.  The Saguaro cactus fixes the damage by sealing it up with a “callous scar tissue” which stops loss of water.</a:t>
            </a:r>
            <a:endParaRPr b="0" lang="en-US" sz="20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8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6" name="" descr=""/>
          <p:cNvPicPr/>
          <p:nvPr/>
        </p:nvPicPr>
        <p:blipFill>
          <a:blip r:embed="rId1"/>
          <a:stretch/>
        </p:blipFill>
        <p:spPr>
          <a:xfrm>
            <a:off x="228600" y="304920"/>
            <a:ext cx="1676520" cy="1225440"/>
          </a:xfrm>
          <a:prstGeom prst="rect">
            <a:avLst/>
          </a:prstGeom>
          <a:ln w="0">
            <a:noFill/>
          </a:ln>
        </p:spPr>
      </p:pic>
      <p:pic>
        <p:nvPicPr>
          <p:cNvPr id="87" name="" descr="See full size image">
            <a:hlinkClick r:id="rId2"/>
          </p:cNvPr>
          <p:cNvPicPr/>
          <p:nvPr/>
        </p:nvPicPr>
        <p:blipFill>
          <a:blip r:embed="rId3"/>
          <a:stretch/>
        </p:blipFill>
        <p:spPr>
          <a:xfrm>
            <a:off x="7391520" y="339840"/>
            <a:ext cx="1523880" cy="114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8000"/>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oe</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is like a “plastic wrap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lant also stores water inside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ice is used as medicine by Native Americ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ice is helpful to cease pain in bu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762120" y="4800600"/>
            <a:ext cx="2376360" cy="1781280"/>
          </a:xfrm>
          <a:prstGeom prst="rect">
            <a:avLst/>
          </a:prstGeom>
          <a:ln w="0">
            <a:noFill/>
          </a:ln>
        </p:spPr>
      </p:pic>
      <p:pic>
        <p:nvPicPr>
          <p:cNvPr id="91" name="" descr="See full size image">
            <a:hlinkClick r:id="rId2"/>
          </p:cNvPr>
          <p:cNvPicPr/>
          <p:nvPr/>
        </p:nvPicPr>
        <p:blipFill>
          <a:blip r:embed="rId3"/>
          <a:stretch/>
        </p:blipFill>
        <p:spPr>
          <a:xfrm>
            <a:off x="5562720" y="4800600"/>
            <a:ext cx="2361960" cy="178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in Fruit Cholla</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anches grow from its central trunk, which is covered in spine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es have a sort of shell on them that reflects sunlight and prevents the plant from over heating.</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in fruit Cholla  is found in soil of bajadas, in the Sonoran and Chihuahua Desert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ranches have green leaves that bloom with flowers and grow fruit.  These flowers keep blooming on top on the already grown fruit, creating a chain of fruit, for which the plant is named after.</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ruit segments can stick onto animals, and these plants travel with the animal for a short distance before falling to the ground.  The fruit is sometimes fertile, so the plant relies on fruit being taken off of the plant to grow new ones.</a:t>
            </a:r>
            <a:endParaRPr b="0" lang="en-US" sz="2200" spc="-1" strike="noStrike">
              <a:solidFill>
                <a:srgbClr val="000000"/>
              </a:solidFill>
              <a:latin typeface="Arial"/>
            </a:endParaRPr>
          </a:p>
          <a:p>
            <a:pPr marL="322200" indent="-3222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94" name="" descr=""/>
          <p:cNvPicPr/>
          <p:nvPr/>
        </p:nvPicPr>
        <p:blipFill>
          <a:blip r:embed="rId1"/>
          <a:stretch/>
        </p:blipFill>
        <p:spPr>
          <a:xfrm>
            <a:off x="304920" y="228600"/>
            <a:ext cx="1600200" cy="1317600"/>
          </a:xfrm>
          <a:prstGeom prst="rect">
            <a:avLst/>
          </a:prstGeom>
          <a:ln w="0">
            <a:noFill/>
          </a:ln>
        </p:spPr>
      </p:pic>
      <p:pic>
        <p:nvPicPr>
          <p:cNvPr id="95" name="" descr=""/>
          <p:cNvPicPr/>
          <p:nvPr/>
        </p:nvPicPr>
        <p:blipFill>
          <a:blip r:embed="rId2"/>
          <a:stretch/>
        </p:blipFill>
        <p:spPr>
          <a:xfrm>
            <a:off x="6934320" y="304920"/>
            <a:ext cx="1923840" cy="128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aptations: Plants</a:t>
            </a:r>
            <a:endParaRPr b="0" lang="en-US" sz="4400" spc="-1" strike="noStrike">
              <a:solidFill>
                <a:srgbClr val="000000"/>
              </a:solidFill>
              <a:latin typeface="Arial"/>
            </a:endParaRPr>
          </a:p>
        </p:txBody>
      </p:sp>
      <p:sp>
        <p:nvSpPr>
          <p:cNvPr id="97" name=""/>
          <p:cNvSpPr txBox="1"/>
          <p:nvPr/>
        </p:nvSpPr>
        <p:spPr>
          <a:xfrm>
            <a:off x="380520" y="1371600"/>
            <a:ext cx="403884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daptation of plants is the ability to store water inside themselves.  These plants live in very dry area’s with almost no yearly rainfall, so some plants (like the saguaro cactus, barrel cactus, and aloe) can store it within themselves.</a:t>
            </a:r>
            <a:endParaRPr b="0" lang="en-US" sz="2800" spc="-1" strike="noStrike">
              <a:solidFill>
                <a:srgbClr val="000000"/>
              </a:solidFill>
              <a:latin typeface="Arial"/>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adaptation is an ability to prevent water loss.  Some plants, like the Saguaro Cactus, can create a “callous scar tissue” to fill up the holes to prevent water from being l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9999"/>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he Desert</a:t>
            </a:r>
            <a:endParaRPr b="0" lang="en-US" sz="4400" spc="-1" strike="noStrike">
              <a:solidFill>
                <a:srgbClr val="000000"/>
              </a:solidFill>
              <a:latin typeface="Arial"/>
            </a:endParaRPr>
          </a:p>
        </p:txBody>
      </p:sp>
      <p:sp>
        <p:nvSpPr>
          <p:cNvPr id="10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tion:  Many people drive their vehicles onto areas that are restricted, killing the many plants and animals that hide in the sand.  The population of plants and animals decreases, causing the populations of the plants and animals that eat them to decrease too.</a:t>
            </a:r>
            <a:endParaRPr b="0" lang="en-US" sz="2400" spc="-1" strike="noStrike">
              <a:solidFill>
                <a:srgbClr val="000000"/>
              </a:solidFill>
              <a:latin typeface="Arial"/>
            </a:endParaRPr>
          </a:p>
        </p:txBody>
      </p:sp>
      <p:sp>
        <p:nvSpPr>
          <p:cNvPr id="101"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Water that is very scarce in the Desert is being used more and more as greater amounts of people are building houses and businesses in the De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esert Anima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Deserts contain a big variety of animals that range from herbivores to carnivores</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Most small herbivores remain under cover or shelter most of the day, and come out to eat plants at night</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Coyotes, hawks, owls, and roadrunners are all carnivores that live in the desert. They feast on smaller mammals like snakes and lizards.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he Desert</a:t>
            </a:r>
            <a:endParaRPr b="0" lang="en-US" sz="4400" spc="-1" strike="noStrike">
              <a:solidFill>
                <a:srgbClr val="000000"/>
              </a:solidFill>
              <a:latin typeface="Arial"/>
            </a:endParaRPr>
          </a:p>
        </p:txBody>
      </p:sp>
      <p:sp>
        <p:nvSpPr>
          <p:cNvPr id="103" name=""/>
          <p:cNvSpPr txBox="1"/>
          <p:nvPr/>
        </p:nvSpPr>
        <p:spPr>
          <a:xfrm>
            <a:off x="456840" y="1600200"/>
            <a:ext cx="8077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  In many Deserts, people have hunted gazelles and other animals to the point where there aren’t many left.  Plants are also taken from the Desert, and the result is populations of them becoming extinct.  Now, we have laws to protect the Deserts and prevent this from happening.  Parks and preserves protect a large amount of plants and animals, like the tortoise and saguaro cac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humans help protect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most desert animals venomo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ne valuable mineral found in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ne geological feature found in desert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world’s largest oilfield?</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aloe be used for at hom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ommon adaptation among desert animal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107" name="PlaceHolder 2"/>
          <p:cNvSpPr>
            <a:spLocks noGrp="1"/>
          </p:cNvSpPr>
          <p:nvPr>
            <p:ph/>
          </p:nvPr>
        </p:nvSpPr>
        <p:spPr>
          <a:xfrm>
            <a:off x="456840" y="1295280"/>
            <a:ext cx="8381880" cy="55627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encoe Science Biology textbook</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gle Images</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ertUSA.com</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bgnet.mobot.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ueplanetbiomes.org/world biomes.html</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cmp.berkely.edu/exhibits/biomes/index.php</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brary.thinkquest.org</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ahoee.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ila Mons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Monsters live in dry and semi-dry areas with some vege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zona to New Mexico, and Mexico are popular habitats for Gila Mons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heavy bodied with a  short and stout tail, hat can store at for when there is food short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brightly colored scales on thei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on the ground and sleep under rocks or in burrows that it either digs on its own, or steals from other anim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a Monsters are nocturnal , but may come out during the day in the spr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venomous creatures, who's venom is produced in the glands in its jaw.  The venom enters the monsters mouth through its grooved teeth.  When it chews, the venom goes into the victim to kill it faste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1"/>
          <a:stretch/>
        </p:blipFill>
        <p:spPr>
          <a:xfrm>
            <a:off x="5638680" y="4495680"/>
            <a:ext cx="2667240" cy="1873440"/>
          </a:xfrm>
          <a:prstGeom prst="rect">
            <a:avLst/>
          </a:prstGeom>
          <a:ln w="0">
            <a:noFill/>
          </a:ln>
        </p:spPr>
      </p:pic>
      <p:pic>
        <p:nvPicPr>
          <p:cNvPr id="54" name="" descr=""/>
          <p:cNvPicPr/>
          <p:nvPr/>
        </p:nvPicPr>
        <p:blipFill>
          <a:blip r:embed="rId2"/>
          <a:stretch/>
        </p:blipFill>
        <p:spPr>
          <a:xfrm>
            <a:off x="914400" y="4648320"/>
            <a:ext cx="2057400" cy="186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6600ff"/>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304560"/>
            <a:ext cx="8381880" cy="419076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ennec Fox</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nnec Foxes are small mammals that live in the desert and semi-deser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around North Africa: Morocco to Egypt, south to Northern Niger, Sudan; east to Sinai Peninsula and Kuwait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eat other small mammals like rodents, lizards, birds, and insect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te for life and each family and/or pair has its own territor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usually identified by their huge ear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leep in burrows in the sand during the day, and hunt during the nigh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y breed, the babies are usually born 2-5 at a time, in the Spring time</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 name="" descr=""/>
          <p:cNvPicPr/>
          <p:nvPr/>
        </p:nvPicPr>
        <p:blipFill>
          <a:blip r:embed="rId1"/>
          <a:stretch/>
        </p:blipFill>
        <p:spPr>
          <a:xfrm>
            <a:off x="5943600" y="4495680"/>
            <a:ext cx="2209680" cy="2049480"/>
          </a:xfrm>
          <a:prstGeom prst="rect">
            <a:avLst/>
          </a:prstGeom>
          <a:ln w="0">
            <a:noFill/>
          </a:ln>
        </p:spPr>
      </p:pic>
      <p:pic>
        <p:nvPicPr>
          <p:cNvPr id="57" name="" descr=""/>
          <p:cNvPicPr/>
          <p:nvPr/>
        </p:nvPicPr>
        <p:blipFill>
          <a:blip r:embed="rId2"/>
          <a:stretch/>
        </p:blipFill>
        <p:spPr>
          <a:xfrm>
            <a:off x="1143000" y="4653000"/>
            <a:ext cx="2743200" cy="18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80880" y="228600"/>
            <a:ext cx="8229600" cy="36576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n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gos are large mammals that live mainly in the Australian dese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ke a variety of habitats from sandy deserts to wet and dry  sclerophyll fores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arnivores who feed on rabbits and shee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ngos are descended from domestic dogs and their behaviors are very simi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ive in family groups but may gather into large packs when hu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ir babies 4-5 at a time in burrows or rock crev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 name="" descr=""/>
          <p:cNvPicPr/>
          <p:nvPr/>
        </p:nvPicPr>
        <p:blipFill>
          <a:blip r:embed="rId1"/>
          <a:stretch/>
        </p:blipFill>
        <p:spPr>
          <a:xfrm>
            <a:off x="838080" y="4191120"/>
            <a:ext cx="2833920" cy="2124000"/>
          </a:xfrm>
          <a:prstGeom prst="rect">
            <a:avLst/>
          </a:prstGeom>
          <a:ln w="0">
            <a:noFill/>
          </a:ln>
        </p:spPr>
      </p:pic>
      <p:pic>
        <p:nvPicPr>
          <p:cNvPr id="60" name="" descr=""/>
          <p:cNvPicPr/>
          <p:nvPr/>
        </p:nvPicPr>
        <p:blipFill>
          <a:blip r:embed="rId2"/>
          <a:stretch/>
        </p:blipFill>
        <p:spPr>
          <a:xfrm>
            <a:off x="5257800" y="4267080"/>
            <a:ext cx="2819520" cy="19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rts usually have a very high temperature because of their locations near the equ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usually ranges from 10</a:t>
            </a:r>
            <a:r>
              <a:rPr b="0" lang="en-US" sz="2400" spc="-1" strike="noStrike">
                <a:solidFill>
                  <a:srgbClr val="000000"/>
                </a:solidFill>
                <a:latin typeface="Arial"/>
                <a:ea typeface="Arial"/>
              </a:rPr>
              <a:t>ºC to 35º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winter months, the temperature is usually around </a:t>
            </a:r>
            <a:r>
              <a:rPr b="0" lang="en-US" sz="2400" spc="-1" strike="noStrike">
                <a:solidFill>
                  <a:srgbClr val="000000"/>
                </a:solidFill>
                <a:latin typeface="Arial"/>
              </a:rPr>
              <a:t>10</a:t>
            </a:r>
            <a:r>
              <a:rPr b="0" lang="en-US" sz="2400" spc="-1" strike="noStrike">
                <a:solidFill>
                  <a:srgbClr val="000000"/>
                </a:solidFill>
                <a:latin typeface="Arial"/>
                <a:ea typeface="Arial"/>
              </a:rPr>
              <a:t>ºC to </a:t>
            </a:r>
            <a:r>
              <a:rPr b="0" lang="en-US" sz="2400" spc="-1" strike="noStrike">
                <a:solidFill>
                  <a:srgbClr val="000000"/>
                </a:solidFill>
                <a:latin typeface="Arial"/>
              </a:rPr>
              <a:t>20</a:t>
            </a:r>
            <a:r>
              <a:rPr b="0" lang="en-US" sz="2400" spc="-1" strike="noStrike">
                <a:solidFill>
                  <a:srgbClr val="000000"/>
                </a:solidFill>
                <a:latin typeface="Arial"/>
                <a:ea typeface="Arial"/>
              </a:rPr>
              <a:t>º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temperature can go as high as 35ºC in the spring, summer, and winter fall month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infall is very scarce in the dese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s than 25 cm of rain annually is very comm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Atacama Desert in Chile (the world’s driest place) gets less than 0.004 inches of rainfall a yea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50000">
              <a:srgbClr val="9d5cfe"/>
            </a:gs>
            <a:gs pos="100000">
              <a:srgbClr val="66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tion of Deserts Worldwid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Map: Arid Lands of the World"/>
          <p:cNvPicPr/>
          <p:nvPr/>
        </p:nvPicPr>
        <p:blipFill>
          <a:blip r:embed="rId1"/>
          <a:stretch/>
        </p:blipFill>
        <p:spPr>
          <a:xfrm>
            <a:off x="0" y="167652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 Value of Deser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s are very rich in mineral wealth and contain deposits of copper, borax, iron, uranium and lith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world’s most productive oilfields, such as the world’s largest oilfield, Ghwar Field in Saudi Arabia, are found in des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s will likely be valuable in the future for solar and wind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971440" y="6286320"/>
            <a:ext cx="61722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Geologic Features</a:t>
            </a:r>
            <a:r>
              <a:rPr b="0" lang="en-US" sz="4000" spc="-1" strike="noStrike">
                <a:solidFill>
                  <a:srgbClr val="ffffff"/>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152280" y="151920"/>
            <a:ext cx="4572000" cy="2514600"/>
          </a:xfrm>
          <a:prstGeom prst="rect">
            <a:avLst/>
          </a:prstGeom>
          <a:solidFill>
            <a:srgbClr val="000000"/>
          </a:solid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eserts exist because they fall within a rain shadow, where water moisture is lost as it is blown over mountain range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here is little vegetation, erosion and flash floods are common.</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ologic feature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2:27:53Z</dcterms:created>
  <dc:creator>xpstudent</dc:creator>
  <dc:description/>
  <dc:language>en-US</dc:language>
  <cp:lastModifiedBy>xpstudent</cp:lastModifiedBy>
  <dcterms:modified xsi:type="dcterms:W3CDTF">2010-10-28T12:14:49Z</dcterms:modified>
  <cp:revision>6</cp:revision>
  <dc:subject/>
  <dc:title>Location of Deserts Worldwide</dc:title>
</cp:coreProperties>
</file>